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applause.wav" ContentType="audio/x-wav"/>
  <Override PartName="/ppt/media/arrow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AE6B-D724-4606-A5F9-937A5C65F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B88C-59BC-4DDA-8644-8D80C56C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1571-1470-4830-999C-0FEE2EE2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C634-5587-42E3-9596-FDD7C0345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FA24-786E-452B-8EF3-F3C8931A1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8F71-F6E7-4F11-A9CD-53CEA6E8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6EBF-05C6-48F4-B9C0-1FE9A81B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7894-05B7-438A-BC2B-C7890E28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5A64-C229-4AD0-996F-64D995F7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7AC5-B91E-4FFA-B7B7-E8C32318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9E10-DD85-4CDE-A451-E72A0A0B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1E80-BB3D-40C0-91DA-E9204876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9402-CCF5-4A77-9A17-5AF42307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2355-8CB5-451F-B743-F29EE952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F470-1623-49F2-B72C-CC25BDE3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B38F-2A06-4D24-A369-C237A949F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A3AA-05E8-40A3-8E55-FE9A77FD4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5E6A-2FFC-453E-B47D-87545AA0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3608-3C32-48C9-A9C5-2866C47E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C607-236A-4FD7-9742-E55677C8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DD34-2A15-4C33-91DD-496C20BC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396B-8999-4685-BED4-F239A2F8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2E0A-C2F2-4317-9C4F-61106A99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1092-6A6B-469F-9C27-3DC876F6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3572-117D-429D-8849-8B9A50D2B27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5505-05E7-46A3-84BA-9B5491F28A4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3366"/>
                </a:solidFill>
                <a:latin typeface="Century Gothic"/>
              </a:rPr>
              <a:t>The Movement is Always Tougher in Russia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724280" y="2895120"/>
            <a:ext cx="4013280" cy="18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Calibri"/>
              </a:rPr>
              <a:t>Ethan Sit and Quynh Vu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086600" y="2666880"/>
            <a:ext cx="1193760" cy="1419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24280" y="2743200"/>
            <a:ext cx="2133720" cy="1415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Seaports In Russ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There are seven seaports in Russia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-Kaliningrad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-St. Petersburg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-Okhotsk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- Murmansk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-Vladivostok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-Astrakhan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-Petropavlovsk Kamchatsky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A problem with these ports is that they are spaced far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apart from each other. Ships have to travel another 200 miles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to get the most inland part of Russia, where Kaliningrad is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located. Then, shippers have the choice to travel another 500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miles to the port of St. Petersburg. This consumes lots of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time,</a:t>
            </a: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fuel, and therefore money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Another problem happening in these ports</a:t>
            </a: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is that all ports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but Kaliningrad have ice or frost at some point of the year.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1523880" cy="1981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8320" y="4572000"/>
            <a:ext cx="4114800" cy="2133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324480" y="2666880"/>
            <a:ext cx="2438640" cy="1781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181480" y="1066680"/>
            <a:ext cx="1143000" cy="7621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5" name="arrow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Railways in Russ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Railways in Russia account for  2.5 % percent of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Russia’s GDP, or Gross Domestic Product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761000" y="3164040"/>
            <a:ext cx="4154400" cy="2550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Three rail tracks 350.jpg"/>
          <p:cNvPicPr/>
          <p:nvPr/>
        </p:nvPicPr>
        <p:blipFill>
          <a:blip r:embed="rId2"/>
          <a:stretch/>
        </p:blipFill>
        <p:spPr>
          <a:xfrm>
            <a:off x="5181480" y="1219320"/>
            <a:ext cx="857520" cy="647640"/>
          </a:xfrm>
          <a:prstGeom prst="rect">
            <a:avLst/>
          </a:prstGeom>
          <a:ln w="0">
            <a:noFill/>
          </a:ln>
        </p:spPr>
      </p:pic>
    </p:spTree>
  </p:cSld>
  <p:transition>
    <p:cover dir="u"/>
    <p:sndAc>
      <p:stSnd>
        <p:snd r:embed="rId3" name="arrow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44:14Z</dcterms:created>
  <dc:creator> </dc:creator>
  <dc:description/>
  <dc:language>en-US</dc:language>
  <cp:lastModifiedBy>Han</cp:lastModifiedBy>
  <dcterms:modified xsi:type="dcterms:W3CDTF">2010-12-15T01:33:17Z</dcterms:modified>
  <cp:revision>12</cp:revision>
  <dc:subject/>
  <dc:title> </dc:title>
</cp:coreProperties>
</file>